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7812-5A7C-4205-A4C2-FEB219E0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0D8B-0FD9-4783-8723-8FE4A882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079-767F-4578-82F6-39429BDC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F5F0-B2BE-45A8-B370-637DE838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4DBB-3047-45B7-9C95-9CF82484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4F4B-2395-4910-BB62-4590FE4A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EF5C-FD99-464F-80B8-A7AF5D64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3E0E-7ACB-4FE2-B095-58F7C479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1642-C3ED-4829-8BA3-237E32B3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7C4B-6BD8-4BA7-99C2-03173020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D0C0-E129-4050-902D-425F41AA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9A2-CBD1-4E45-A86F-D4BD8B7F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10A3-5BAC-42BE-9077-3D1D9535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5C61-12B0-444B-B0FC-9BF671B0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785C-474D-49C0-A4A1-B2EE1302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682C-35A2-48AE-89D2-CACADC7D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1749-83FA-4130-9C6C-AE170EC9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B2F-13EE-4FFB-AF7F-13A60554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041-BC86-4E7E-96ED-CADAA8C6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2BB-D377-4D8D-97E2-D9B0A796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AD2-1002-4DC6-8608-119E7993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D09-5969-4824-B032-BFCFAC14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523-6CAA-4BFC-851D-202A20DB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4D5-B40C-471A-B08E-F4FD8F3D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4BC6-7743-4450-A7C0-BBC796724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ntologies – Deborah L. McGuinn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1811-84AF-4302-8475-06BB1C72C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cccc"/>
                </a:solidFill>
                <a:latin typeface="Times New Roman"/>
              </a:rPr>
              <a:t>The “Pull” for Ontologies </a:t>
            </a:r>
            <a:br>
              <a:rPr sz="4000"/>
            </a:br>
            <a:r>
              <a:rPr b="0" i="1" lang="en-US" sz="2800" spc="-1" strike="noStrike">
                <a:solidFill>
                  <a:srgbClr val="00cccc"/>
                </a:solidFill>
                <a:latin typeface="Times New Roman"/>
              </a:rPr>
              <a:t>(and what we might do about it…</a:t>
            </a:r>
            <a:br>
              <a:rPr sz="2800"/>
            </a:br>
            <a:r>
              <a:rPr b="0" i="1" lang="en-US" sz="2800" spc="-1" strike="noStrike">
                <a:solidFill>
                  <a:srgbClr val="00cccc"/>
                </a:solidFill>
                <a:latin typeface="Times New Roman"/>
              </a:rPr>
              <a:t>…Creating and Maintaining Distributed Ontologies)</a:t>
            </a:r>
            <a:endParaRPr b="0" i="1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47920" y="2895480"/>
            <a:ext cx="7238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borah McGuin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 Director and Senior Research Scient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ledge Systems Labora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ford, CA 943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50-723-977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m@ksl.stanford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The KB Merging Task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e KBs th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developed independently by multiple auth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ress overlapping knowledge in a common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differing representations and vocabul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 merged KB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redund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he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cabulary, content, and re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-30492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cc"/>
                </a:solidFill>
                <a:latin typeface="Times New Roman"/>
              </a:rPr>
              <a:t>How KB Merging Tools Can Help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mbine input KBs with name clas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at each input KB as a separate name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pport merging of classes and re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lace all occurrences by the merged class or re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 for logical consistency of me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 for differences between merge candi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 merging 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ely look for inconsistent exten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tch vocabul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name clashes, subsumed names, synonyms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cus at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tions of KB where new relationships are likely to be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08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, sibling subclasses from multiple input K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rive relationships among classes and re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jointness, equivalence, subsumption, inconsistency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  </a:t>
            </a: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kb-upload-languages" descr=""/>
          <p:cNvPicPr/>
          <p:nvPr/>
        </p:nvPicPr>
        <p:blipFill>
          <a:blip r:embed="rId1"/>
          <a:srcRect l="0" t="0" r="3172" b="18944"/>
          <a:stretch/>
        </p:blipFill>
        <p:spPr>
          <a:xfrm>
            <a:off x="1828800" y="609480"/>
            <a:ext cx="6781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view-menu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635328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  </a:t>
            </a: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name-resolution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67053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add-to-decomposition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69912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The Need For KB Analysi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-scale knowledge repositories will necessarily contain KBs produced by multiple authors in multiple setting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Bs for applications will typically be built by assembling and extending multiple modular KBs from repositori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at may not be consis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Bs developed by multiple authors will frequ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ress overlapping knowledge in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ifferent, possibly contradictory 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differing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ssumpt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ty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such KBs to be used as building blocks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hey must be reviewed for appropriateness and “correctnes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is, they must b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naly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Our KB Analysis Task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vie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Bs th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develop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sing differing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y be syntactically but not semantically valid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use differ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epresent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oduce KB logs (in interactive environme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dentify provable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uggest possible problems in style and/or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e extensible by being user programm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analysis-menu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1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  </a:t>
            </a: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collage0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6248520" cy="3171600"/>
          </a:xfrm>
          <a:prstGeom prst="rect">
            <a:avLst/>
          </a:prstGeom>
          <a:ln w="0">
            <a:noFill/>
          </a:ln>
        </p:spPr>
      </p:pic>
      <p:pic>
        <p:nvPicPr>
          <p:cNvPr id="173" name="collage1" descr=""/>
          <p:cNvPicPr/>
          <p:nvPr/>
        </p:nvPicPr>
        <p:blipFill>
          <a:blip r:embed="rId2"/>
          <a:stretch/>
        </p:blipFill>
        <p:spPr>
          <a:xfrm>
            <a:off x="2286000" y="4724280"/>
            <a:ext cx="443880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What is an Ontology?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42900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3429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342900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342900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34290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0" y="2286000"/>
            <a:ext cx="138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log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53120" y="1905120"/>
            <a:ext cx="1722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840" y="3809880"/>
            <a:ext cx="136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8680" y="1523880"/>
            <a:ext cx="162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au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190512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-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18288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ropert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1905120"/>
            <a:ext cx="1676520" cy="2743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34290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4290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6576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-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6576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3886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Rest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373392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jointness, Inverse, part-of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</a:t>
            </a: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ollage7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3342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 </a:t>
            </a: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collage2" descr=""/>
          <p:cNvPicPr/>
          <p:nvPr/>
        </p:nvPicPr>
        <p:blipFill>
          <a:blip r:embed="rId1"/>
          <a:stretch/>
        </p:blipFill>
        <p:spPr>
          <a:xfrm>
            <a:off x="1876320" y="2133720"/>
            <a:ext cx="53913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Discussion/Conclusio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tologies are expl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siness will create languages and environments without us if we do not move n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generation applications need more expressive ontologies and more back end reas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generation users (the general public) need more support than previous users of KR&amp;R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ted ontologies need more support for merging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could be our killer ap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Extr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KSL KB Merging Tool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11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ging can be arbitrarily diffic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Bs can differ in basic representational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require extensive negotiation among auth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1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ls can significantly accelerate major st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1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B merging using conventional editing tool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icult       </a:t>
            </a:r>
            <a:r>
              <a:rPr b="1" lang="en-US" sz="24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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bor intensive       </a:t>
            </a:r>
            <a:r>
              <a:rPr b="1" lang="en-US" sz="24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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ror pr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1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hesis: tools specifically designed to support KB merging can significa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ed up the merging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ve the quality of the resulting K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Ontologies and importance to E-Commerc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228960" y="1904760"/>
            <a:ext cx="93726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ontologies provi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led shared vocabulary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earch engines, authors, users, databases, programs all speak same langu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ation (and navigation suppor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ctation setting  (left side of many web pag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wsing support (tagged structures such as Yahoo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 support (query expansion approaches such as FindUR, e-Cy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disambig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Ontologies and importance to E-Commerce  II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lvl="2" marL="982800" indent="-19656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ndation for expansion and leve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lict de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ression testing/validation/verification support found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guration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ctured, comparative 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ization/ Speci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520" y="-2289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E-Commerce  Search </a:t>
            </a:r>
            <a:br>
              <a:rPr sz="4400"/>
            </a:br>
            <a:r>
              <a:rPr b="0" i="1" lang="en-US" sz="2000" spc="-1" strike="noStrike">
                <a:solidFill>
                  <a:srgbClr val="00cccc"/>
                </a:solidFill>
                <a:latin typeface="Times New Roman"/>
              </a:rPr>
              <a:t>(starting point Forrester modified by McGuinness)</a:t>
            </a:r>
            <a:endParaRPr b="0" i="1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lvl="2" marL="868680" indent="-17352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k Quer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ultiple search interfaces (surgical shoppers, advice seekers, window shopp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et user expectations (interactive query refinemen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nticipate anomal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-17352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t Answ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asic information (multiple sorts, filtering, structur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odify results (user defined parameters for refining, user profile info, narrow query, broaden query, disambiguate que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ggest alternatives (suggest other comparable products even from competitor’s sit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-17352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ke Deci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anipulate results (enable side by side comparis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ve deeper (provide additional info, multimedia, other view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ke action (bu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cc"/>
                </a:solidFill>
                <a:latin typeface="Times New Roman"/>
              </a:rPr>
              <a:t>A Few Observations about Ontologies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ple ontologies can be built by non-expe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der Verity’s Topic Editor, Collaborative Topic Builder, GFP interface, Chimaera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ntologies can be semi-automatically gene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crawls of site such as yahoo!, amazon, excit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i-structured sites can provide starting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ntologies are exploding   (business pull instead of technology pus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e-commerce sites are using them - MySimon, Affinia, Amazon, Yahoo! Shopping,, 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d vocabularies (for the web) abound -  SIC codes,  UMLS, UN/SPSC, Open Directory, Rosetta Net,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 ontologies are including r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TDs are making more ontology information avail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es have ontology dir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” ontologies are becoming more central to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Implications and Need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tology Language Syntax and Seman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s for Creation and Maintenance of  Ontolo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 (Conceptual Modeling, reasoning implications, 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on among distributed t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erse training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connectivity with many systems/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sis and 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himaera – A Merging and Diagnostic Ontology Environmen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merging multiple ontologies found in distributed enviro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e single or multiple ontologies and focus user attention in problematic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simple browsing and mixed initiative ed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The Need For KB Merging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-scale knowledge repositories will necessarily contain KBs produced by multiple authors in multiple sett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Bs for applications will typically be built by assembling and extending multiple modular KBs from reposit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Bs developed by multiple authors will frequ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ress overlapping knowledge in a common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differing representations and vocabul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such KBs to be used together as building blocks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 representational differences must be reconci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is, their overlapping content needs to b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erg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1T23:20:40Z</dcterms:created>
  <dc:creator>Deborah McGuinness</dc:creator>
  <dc:description>For Dagstuhl  Semantics on the Web Seminar - 3/20/00</dc:description>
  <dc:language>en-US</dc:language>
  <cp:lastModifiedBy>Stefan Decker</cp:lastModifiedBy>
  <cp:lastPrinted>1999-07-17T02:30:43Z</cp:lastPrinted>
  <dcterms:modified xsi:type="dcterms:W3CDTF">2000-04-09T18:22:37Z</dcterms:modified>
  <cp:revision>215</cp:revision>
  <dc:subject/>
  <dc:title>Ontology Pull</dc:title>
</cp:coreProperties>
</file>